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61817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B8F-E5C1-48FA-BAC7-D6568DB5D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57264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72B-EBB7-40F9-8957-8B2AD986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892A-E89E-45E3-AB63-D27AEBFDC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44252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572640"/>
            <a:ext cx="220788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B61-C858-49DE-ADF0-0986F08BB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B38A-2F18-4D91-ACC1-CE9F6835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683-B2CB-4C0B-B70A-30C699ED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D54C-5154-470A-BA43-77162F9A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4CC-5256-47DC-87DE-E8ED99CC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47680"/>
            <a:ext cx="6858000" cy="477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83C0-C35B-4752-948A-B71F7E33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EC85-BD53-4FA5-AB0C-CCD7DB26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57264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8DE-BD0E-4CD4-B38A-A4E15013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442520"/>
            <a:ext cx="334656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572640"/>
            <a:ext cx="6858000" cy="19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25B6-1E63-472A-AB67-81F5D1C9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47680"/>
            <a:ext cx="6858000" cy="10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42520"/>
            <a:ext cx="68580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62896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628960"/>
            <a:ext cx="241308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628960"/>
            <a:ext cx="17780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216C-EFA6-44A6-BBB5-0FF153DA0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9800" y="450720"/>
            <a:ext cx="66801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 9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1 Multiplying/Dividing Rational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restrictio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2 Add/Subtract Rational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3 Grap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sympt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55480" y="250920"/>
            <a:ext cx="534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4 Var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5 Classes of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.6 Solving Equations and Inequa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luti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6880" y="422280"/>
            <a:ext cx="39373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.517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1-17, 20-2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(For #s12 &amp; 13, list all asymptotes and holes.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5:19:32Z</dcterms:created>
  <dc:creator>udsd</dc:creator>
  <dc:description/>
  <dc:language>en-US</dc:language>
  <cp:lastModifiedBy>udsd</cp:lastModifiedBy>
  <dcterms:modified xsi:type="dcterms:W3CDTF">2009-06-05T15:19:32Z</dcterms:modified>
  <cp:revision>1</cp:revision>
  <dc:subject/>
  <dc:title>Slide 1</dc:title>
</cp:coreProperties>
</file>